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ct" ContentType="image/x-pict"/>
  <Override PartName="/ppt/media/image1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6B3F-AFED-4D60-AD1A-D6C1C99B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c208.blogspot.com/2009_11_01_archiv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shuttervoice.com/15497/sickle-cell-anemia-awareness-campaig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towler.com/taxonomy/term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politicaltimes.org/img/original/DNA5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un.ca/biology/scarr/Ribose_suga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s (purines &amp; pyrimid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.arizona.edu/biochemistry/problem_sets/large_molecules/06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oprofs.com/flashcards/cardshowall.php?title=exam-5-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.miami.edu/dana/250/250SS10_7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eautifulactivenourished.com/nutrition/combining-food-for-optimum-digestion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and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eltina.org/health-dictionary/rna-ribonucleic-acid-definition-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imple.wikipedia.org/wiki/File:ATP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overview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hbrainsandbeauty.com/page/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ee also Figure 2 (p.40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octortee.com/dsu/tiftickjian/bio100/biol-molecul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cademic.pgcc.edu/~ssinex/blt/proteins/proteins.htm</a:t>
            </a:r>
            <a:br>
              <a:rPr sz="300"/>
            </a:b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show dehydration synthesis in formation of peptide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umass.edu/molvis/workshop/prot1234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069-E1C3-4170-AF86-ECBF2D79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016-4711-4768-90BB-992127A2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814-7EA5-4D3A-9F4C-9204F269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485-3311-4981-B686-AE23E680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3D5-C6D2-4211-94A8-4DA2CD1D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869-3B04-4EBE-B24B-582646B9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1C6-82F5-4CA9-AF87-E46F7FE7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404-B635-4C77-B893-E96707E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1E7-E4C5-44AB-9918-E05C61AC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998-115D-497B-A407-FF030BE8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A47-7A98-4298-8157-BED410F5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706-9AD7-464C-AA33-F767037A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1D76-40EA-4F5B-AEEB-02B948B70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-ctkPUUpUc&amp;feature=channe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&amp; 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46440" y="1981080"/>
            <a:ext cx="544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NA mutation causes a chang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amino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ne of the 4 polypeptide chains of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en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to heat, radiation, changes in pH can cause bonds between amino acids to be disrupted, causing the shape of a protein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biologic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change is irreversibl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g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 (DNA) and ribonucleic acid (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utrients, but are essential for all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assembly &amp; heredita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 -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ic acids are polymer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oxyribose &amp; Rib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882880"/>
            <a:ext cx="77724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46160" y="1981080"/>
            <a:ext cx="524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largely responsible for structural and functional characteristics of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2657520"/>
            <a:ext cx="3809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70200" y="609480"/>
            <a:ext cx="5403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Nucleo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nosine triphosphate (ATP) is used to power reactions i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86280" y="1981080"/>
            <a:ext cx="297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nition &amp; recep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zy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hain of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hain of 50+ a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and number of a.a. in a protein determine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tructure of th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different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2763720"/>
            <a:ext cx="3809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tide Bon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-ctkPUUpUc&amp;feature=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2409840"/>
            <a:ext cx="7772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eins also require non-protein “prosthetic groups” t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has 4 polypeptides, and 4 heme groups (each with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2-09-21T09:49:29Z</dcterms:modified>
  <cp:revision>184</cp:revision>
  <dc:subject/>
  <dc:title>Organic Chemistry</dc:title>
</cp:coreProperties>
</file>